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28D-7399-442F-8B7F-26F85ED1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7B8-791F-49A4-AF18-26EFA26B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03CF9-02F4-4991-99B7-8431CB9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4B2CA-341F-445C-8363-4ED58EF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A9281-A007-4E53-AE65-7EDA05AB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A211B-B1BC-4F8C-B145-EE69ED1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D6A47-3F37-473C-B8B8-C5DF68C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60B8-C11E-4022-A832-40DC670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D9D12-673A-4FC8-835B-93163C5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BFF84-63B0-41C5-81DA-6957258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A5E85-7169-4067-8DDE-CFBD0C76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2CA9-EEF9-4BCE-9D69-51AA313D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5DC-8AC9-47C0-AE8B-2A8C20DF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D6B6A-95AE-407B-B49E-D49A612E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6A7B-D22E-4536-BE1F-DFCD8CE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AC6C-E8B3-4486-8E97-89307F31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2F3A7-8A6F-4CE2-8543-080C6E6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F141B-4F8E-46D5-8203-1702251B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99E5D-29EB-4408-AA04-30857F3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D580C-8712-48F9-A154-7E712AB4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0E3F-8F6A-447B-A06E-DABB714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B2915-9752-4423-AB1D-2415E5E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9CDD9-0B24-4D3E-A0A3-5DAC6828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784-87EF-422E-B517-F6796D7C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D9571-821D-409E-8750-5FCBD66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097B-DAF7-4724-9508-6034BA09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DE5E2-81E5-4B92-AD8D-816D9327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1332D-775B-4921-ABAB-2E7111D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4DEFE-4F0E-4CD1-B2F6-AFEC7FC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AE15D-9728-4AFC-BD3D-F6248F5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BFEF8-3593-472D-9E8A-196E440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BB2CA-4657-417C-991E-D6EC512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9D63D-B71F-4CA9-8ADD-DEA2106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68F47-7ADD-44CA-9A31-AA22C2C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B503-E807-481E-9C93-2ECEA2B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12E9-81AA-4DD1-86A6-081EC566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0580A-B68B-42DE-827A-D8F2756D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479C8-3AC7-4A61-BA5C-7CEDE2E1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1736D-6EFE-4F83-8911-C00A08E7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8B09C-078F-498A-A9DC-6C49291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68B60-030A-4F31-94C0-1407B08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BE182-9759-46E0-A567-8EBAE479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D61CD-EB7C-4B52-A4CD-F1D8BD54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C5042-675B-40EE-8B32-40D67D5A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91FB1-3E13-4E17-BD82-F985420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952C-A781-4A06-B532-17070F3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2741-0374-4ED0-A9DF-D2BC49D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BF0F0-7C0D-450A-B99C-DF05891F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048AC-257A-416B-8AFF-AC77C244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0B94-8539-461B-A4DA-0BE8190F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44722-F9BF-4ADD-94A6-59F603BE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6120B-F03B-4F0D-81F3-210E983B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83885-6390-4C6C-A1D6-A49117A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AE1CF-2190-4637-A555-43CC96C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6E769-BA78-48DD-8F7F-FDD62129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95330-2CBC-4448-ACAF-8294DE37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489B-2803-4F95-ABBA-550227B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EFF35-87A0-4928-8D71-9D416144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3CC65-8BD8-449F-9928-90822A3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C03D7-51A6-4E13-AC4D-8A46256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04151-6A75-4DEA-B652-287B8E5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18E82-D040-4DCA-BCC9-232CEF8F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9492E-2106-4AF1-8B41-493B31C8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1F625-F3DA-469D-8317-ED7EF41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797ED-DD5F-4C79-BD9B-C8701485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D1E36-6FEE-40BA-A629-A188C75E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478FD-9DFD-4976-9FF3-769D4732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92F8-F08E-4410-A7C5-F6AA20F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E33EE-6A20-4529-A4E0-62C913D0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4DEF9-A05C-4942-957B-C13EAE7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BB0DA-ECBB-4A9C-8673-8ED855F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60ACE-0802-4480-892D-950D70A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2BE81-6284-41F2-B98E-2BEEF78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2FFD5-8FCC-4AA2-84D7-0E7EDE9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275B9-25B6-4E2D-9B4D-AC570B36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C9ABF-6735-4EC5-9E0F-D439FF3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E4C12-F176-4DE8-98DB-67F28347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85949-A452-468F-A51D-A1A25DE9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CA44-36E3-4A70-940E-73CCFF6E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DEC67-CCC2-484F-8686-394BE15E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719C8-252A-4812-8A21-79839B0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DA880-55C8-484A-8D2F-1B882D4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80A17-A4DC-4A1A-B405-6D0CCFE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C924D-D608-4D83-8066-47E2D2D3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F0A54-DE84-4B51-A9DC-7903A1A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CE9AF-B01B-4F04-AE94-1EE19EDE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59BE7-35F4-4BC1-BC51-A975003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CE8BD-47B4-4776-8A95-6DA3722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19CE7-35D4-48D3-BC22-E712B023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FF06-5A27-4C28-A0BE-B0A5E4A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2F1FE-48F7-4B9D-A450-0C29BBDD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112D9-5732-428A-8E16-79137E4A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2722E-EA2E-4B02-8CFA-2131E37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2306A-B50E-4372-99E5-6BB7BCB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72F35-2929-45B0-9125-DED62A3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EA93C-A267-406C-88FF-0A1B193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A4A12-4813-4372-B260-3BD68B7A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C9938-4DEB-4726-8578-B09DDACF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A5194-08FA-4BBA-9443-3D9FB7C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CC6E1-3081-4EDD-969F-9FDEF3F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1B8A-1DC8-4BF0-9FB6-6C61A2D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B71D3-F640-4574-9DDE-3B4AA84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53DB0-D299-484A-97BE-31A1F50F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9BB51-7CFA-45B3-BBC7-B9758C2D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55108-CA6A-4CB9-9D02-DF7144F3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F504C-FEBD-4318-B826-AE5EF0B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CD650-3F04-470B-8D02-4B3F6E1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0398B-BEFE-4E08-93E4-8B7CF78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36697-F0FF-469D-874C-671D939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B73C1-FF62-43A3-AD1A-69FC9C4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ED13A-B8AF-49C2-82C4-07E872D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B97-3C17-41A1-9683-6C958A65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3C8C-B9F3-4F6E-A03E-5E43952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310A8-10B0-42F8-B2B3-2CD87C8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9126C-82D4-41D1-85D2-4B04FF3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5356B-0EFC-40F0-ADA9-B146D1E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FEFCF-1E5F-4CEC-A0A6-D5EADB44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3E9A8-8D95-4E94-B372-2E34446C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7894D-E5C8-496B-A6C0-A09DD875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A5E9D-E295-40B8-B9B7-F6C88B8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B3951-4548-4EBD-B138-993ECB5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5BDB1-EE38-49FB-B608-5F23CCB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F4B55-1674-4FB2-B1FB-384B407C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C84B-429F-4EB9-B8DF-E72B6BC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4F427-90F2-4F27-9D68-D17F8B9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2BA97-9715-4BB3-AF58-67D2EED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4973F-CF81-4094-A4C2-7E974EAB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5EA62-616C-43AB-9E29-2F8DE36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EFCC3-8DAB-469E-901D-DAF82BD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8CDD4-778D-4268-A001-E7285F71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FE415-6744-4454-B424-C7D34CD3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955D9-0485-4A45-A697-DA5C9282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0D051-3223-40A0-B1C6-0CD91E4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5093F-1E70-41A5-AD26-8E1CF8AA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E599-C587-44CC-A6AB-7360953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CC205-C731-4E67-B0B2-E338AA39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20E2F-B5E7-4B04-A105-165549B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D8FBF-E09C-4D47-9FA7-1F8169C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3927E-C92D-42D0-8728-FDDC783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2688A-0843-4921-BF5B-4349EC0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6BD13E-2B76-4005-8C81-F02B53EC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5BF83-4D22-413C-8D2B-894AE52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736F5-687E-4C95-B405-F93D0F25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9A690-D583-40C8-9396-43C6B048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6E85E-FAA8-4025-91CB-E2008C67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6C21-8BBE-4760-8A2D-9B6EA117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F22E9-55FA-4CDD-BCEE-BA1505F5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B51F6-9D0F-4420-A397-CC8AD19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DD559-CD7D-48D7-8CB6-45D1335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1C95F-A01F-4462-91DA-2C49D843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0545F-0A12-4612-A768-A5CDBD07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ED42E-8AB6-4D8F-97B0-AF72886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6D045-C934-45A4-9B84-E742887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99DF8-7731-402B-A19F-76F3117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6B00B-0C76-4BE4-A5B2-EB8FA92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780E3F-7D5F-4B9C-ABE5-D71CA92D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F4E4-8BE2-421E-A3EF-C22B85F4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4F08A-115F-4864-86DB-D402688E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C1F94-8E07-4FB6-9749-EA613481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6A2F4-7564-4A0F-B652-03FDA36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54B291-49BD-4BF0-848F-4DA8186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CEAC5-592E-4269-9D4C-CE9CB32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56C59-809D-4E57-8395-11E6E52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3AA02-4AE5-4340-85E1-1F6125A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79666-BE9E-4B04-837D-CE38113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4C968-2BB2-42E0-8C42-6DC68BB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182C8-6C63-4A6C-908D-1B0246F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7B20-590C-40FA-9B2B-DD0FD0A4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0AC50-E4DC-4E07-B4E1-FD8A71F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3CEA6-8238-41F3-A9D3-347A156E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127B5-DE97-4D80-9A91-C61DF4A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FEC1-5D8B-44C6-8DF8-F9FCA22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B5BF-498D-4505-9E95-8217C75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15BF-0593-415F-B509-63EC6F3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7F92-6E89-4534-80C2-E0107E1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554-C569-437B-9168-5BCA75D3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FACA-38FA-4E5B-9D2A-70548B9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D924-6ECA-466B-A0B2-9FCA234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E091-C4B6-446B-81A3-C4A8E8D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AAAD-81CA-4B72-AAA5-50A4ED9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8F3A-26B6-460C-B989-E247BAF7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322C-259A-43DF-A957-61DE66A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A5AC-EEA2-41CE-8CE6-12C3107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D94B-ECE2-40A4-91EE-CA6C9AFA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FCED-D877-4BA0-9752-59224F8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E60A-A18A-4BCA-88F5-D075DDE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C32-AB48-468C-9B4B-78F4903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B20D-4083-4C81-8E23-2765FDC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A596-3FD5-476E-B8BC-5320B06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8583-534F-4265-9DCE-41C6DE4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1095-2674-4045-8075-8A8D34D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7ABE-974E-4290-BC45-4DF0E65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DBE4-238F-4480-9BBF-C7FA0BA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441C-6A10-45E7-995C-FBA5130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94C6-3001-4926-AD5D-22C93131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61A23-71CB-4908-A029-1DAA0433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C641B-BC38-4F04-A311-01F82501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84A-B66D-4A4A-8642-A1C3287E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D13A-3301-43C2-BC16-0EB9DEA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63B7D-333F-4211-97DF-202FC1F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C712-DD02-453B-A594-F4C8FFF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85E2-5506-4065-8AA2-9E4D3BA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7B5A-DFB5-48BD-9D27-4292583D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A329-216C-4510-97B9-A9D0DA0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5D1C-8713-4728-AC9D-9F2FF2A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0460-4DA4-4ED5-957E-1292DD7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82A2-1F64-45A0-9890-45D57D7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7D22-4CB9-4055-A432-591C2295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73C-F9E0-40A7-A5A6-53681D30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27B1-FF6B-45ED-A0EB-BEF0667E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3687-6F33-4410-8B44-E94DC9C5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39A8-C9D1-41C1-8E09-384B17D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7EF2-3AA4-4A44-A966-2D1A88D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1479-EE77-41B9-B3F9-4D4F6478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BD8F-4000-44F5-BFFB-9B297E1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621A-8492-4CCF-8611-0543A89E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70BF-731D-451E-9580-7EA10E0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83D7-689A-4CE9-BDFF-4795EA8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F2C9-1740-489C-85A6-2FAAD34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87D-C8BB-44BE-9313-5FE38B9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02CE-E1E6-4664-A32D-4739168F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E74E-3DDC-4D03-BBF8-34839659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9899-42DF-43DC-8D6D-2CAC8886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9AA9-0D06-4A98-99FA-DFB920C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3CCF-C5E2-4D3D-B006-657673A7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A94F-A15F-41F8-B5DA-CC75AF3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2A6A-3E37-4227-A2BA-32BD0B82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5D2F-980E-4D23-9F9E-9898DE6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146E-185F-40A5-A1C7-1372E9E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EA0E-6D1F-41AE-890E-6D6BF05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856-65C9-4CEB-A3A9-C3027CB4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2405-6BA5-45F7-B0F8-74CA34F5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045DC-AE12-412C-A917-86632B3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47BF-2F6B-47EC-A684-77C8C41F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16BA-7FFF-4C91-A005-E19AB71C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5D282-3EE7-4782-B5AA-A4101493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FA29D-EC36-45C1-A14D-D645321D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5C4F-C451-4702-A4C9-425085B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1514-72AB-472A-88C8-9C17198D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4562-5B51-4BF1-B842-7B1C6846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E8EF-CDFB-42D3-A24A-81CA591D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221-E0CE-4BDA-99FB-9B6D792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170D-01B1-486C-BB09-FEBA536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5900-6FE8-4E32-B170-DD9C42F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76387-F58B-4587-AEF0-ADD0B79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0B533-8BAA-442B-B388-CBCFBBA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A4C3-D638-4DC9-A2CD-B89E6ED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FAFC-0F6C-49B9-BC10-9B84550E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9A6E-029A-4A18-9F3E-2F4A978D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41C84-51B1-4EAB-85FF-A881E59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512FF-545C-420D-A4FC-3D9A060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79CEB-B57F-4597-BA6A-EC18A281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5EB-56C7-4340-89A7-FC669561B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C2E-58F5-4940-86B9-A9D4D100D2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68E6-A81D-4B34-8D15-96174F925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C4F7-8C8F-43C9-983B-E315072A20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8581-D30A-4731-B2EA-2EFD93C3D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A0A-2591-4D1D-B84C-6B3903BF8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04C8-FE88-452C-B684-1566DB378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52A-D5CF-4A29-B4B6-0D5D1EDAF3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E09D-2A60-4082-BCF0-9D5B07697D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9BB-B1C7-4243-8E06-D1F1BA4A0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831D-EC6E-4219-A33C-3889EF1F0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86B-B1AE-4224-AE2B-D2D7967D4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54CD-1576-45AC-B4C4-4FA7F060D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B3A-9735-4989-8C71-3C0E2048F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AC8C-1F99-40FD-A7C9-39AC95605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572A-1959-4673-A909-EF42851EF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BA4-247F-4C0F-BDA3-60C0F44D8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B178-DE27-4F1A-AC06-A3017DFB8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0E22-D7DE-4DA4-B72D-DFEE3E9F6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5010-93DC-421F-AC92-412DED4DB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5D71-3E2A-4C0F-B5A2-468919AF8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1BC2-0C9B-4848-9C13-30B7BA24F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D77-AE1E-4E96-ADE4-2D902D9A3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190-606A-4240-A1AE-8389AA256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AA5-0B53-4E11-93B6-1EDB906F2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1ED5-D602-4F0F-B8C3-CC62128AC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FD9-755C-45AD-B073-E23952F98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33B2-A68E-4750-AFA2-7072F1324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117-D17A-4E01-91BD-9A3ACF05A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AEB-2E16-477A-AF0A-A696DBD68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FFC-AC2C-425D-A38A-F8B2335CF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BD1-109B-4DCE-9F4E-AB8F233E2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76F9-D87B-4A9A-990B-70DDAA5F7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763-8C3B-4383-8EDB-293CE6DA94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4E8-8ED2-43F3-8252-6E38A38BB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07A-B2DF-43B1-BA25-A292FA611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C916-77DA-48B3-B4FA-8E3E66B27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EF2A-A527-4506-9B66-D262B0749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15C3-FEE8-4FC1-97E0-119AFAB31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AB4-91C5-4515-B57B-AF7902007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528920" y="3071880"/>
            <a:ext cx="6086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91137" descr=""/>
          <p:cNvPicPr/>
          <p:nvPr/>
        </p:nvPicPr>
        <p:blipFill>
          <a:blip r:embed="rId1"/>
          <a:stretch/>
        </p:blipFill>
        <p:spPr>
          <a:xfrm>
            <a:off x="519120" y="1141560"/>
            <a:ext cx="8058240" cy="201924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91138" descr=""/>
          <p:cNvPicPr/>
          <p:nvPr/>
        </p:nvPicPr>
        <p:blipFill>
          <a:blip r:embed="rId2"/>
          <a:stretch/>
        </p:blipFill>
        <p:spPr>
          <a:xfrm>
            <a:off x="942840" y="3305160"/>
            <a:ext cx="7610760" cy="2028960"/>
          </a:xfrm>
          <a:prstGeom prst="rect">
            <a:avLst/>
          </a:prstGeom>
          <a:ln w="0">
            <a:noFill/>
          </a:ln>
        </p:spPr>
      </p:pic>
      <p:sp>
        <p:nvSpPr>
          <p:cNvPr id="1062" name="矩形 91139"/>
          <p:cNvSpPr/>
          <p:nvPr/>
        </p:nvSpPr>
        <p:spPr>
          <a:xfrm>
            <a:off x="7236000" y="3860640"/>
            <a:ext cx="93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1140"/>
          <p:cNvSpPr/>
          <p:nvPr/>
        </p:nvSpPr>
        <p:spPr>
          <a:xfrm>
            <a:off x="3203640" y="486900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92161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8001000" cy="5934240"/>
          </a:xfrm>
          <a:prstGeom prst="rect">
            <a:avLst/>
          </a:prstGeom>
          <a:ln w="0">
            <a:noFill/>
          </a:ln>
        </p:spPr>
      </p:pic>
      <p:sp>
        <p:nvSpPr>
          <p:cNvPr id="1065" name="矩形 92162"/>
          <p:cNvSpPr/>
          <p:nvPr/>
        </p:nvSpPr>
        <p:spPr>
          <a:xfrm>
            <a:off x="1403280" y="5734080"/>
            <a:ext cx="8971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92163"/>
          <p:cNvSpPr/>
          <p:nvPr/>
        </p:nvSpPr>
        <p:spPr>
          <a:xfrm>
            <a:off x="1403280" y="623736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9318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41529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93186" descr=""/>
          <p:cNvPicPr/>
          <p:nvPr/>
        </p:nvPicPr>
        <p:blipFill>
          <a:blip r:embed="rId2"/>
          <a:stretch/>
        </p:blipFill>
        <p:spPr>
          <a:xfrm>
            <a:off x="1116000" y="5084640"/>
            <a:ext cx="7391520" cy="1419480"/>
          </a:xfrm>
          <a:prstGeom prst="rect">
            <a:avLst/>
          </a:prstGeom>
          <a:ln w="0">
            <a:noFill/>
          </a:ln>
        </p:spPr>
      </p:pic>
      <p:sp>
        <p:nvSpPr>
          <p:cNvPr id="1069" name="矩形 93187"/>
          <p:cNvSpPr/>
          <p:nvPr/>
        </p:nvSpPr>
        <p:spPr>
          <a:xfrm>
            <a:off x="3708360" y="5589720"/>
            <a:ext cx="86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0342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410600" cy="188568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03426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7143840" cy="2628720"/>
          </a:xfrm>
          <a:prstGeom prst="rect">
            <a:avLst/>
          </a:prstGeom>
          <a:ln w="0">
            <a:noFill/>
          </a:ln>
        </p:spPr>
      </p:pic>
      <p:sp>
        <p:nvSpPr>
          <p:cNvPr id="1072" name="矩形 103427"/>
          <p:cNvSpPr/>
          <p:nvPr/>
        </p:nvSpPr>
        <p:spPr>
          <a:xfrm>
            <a:off x="5364000" y="148428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02401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7429680" cy="40960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102402"/>
          <p:cNvSpPr/>
          <p:nvPr/>
        </p:nvSpPr>
        <p:spPr>
          <a:xfrm>
            <a:off x="7020000" y="3956040"/>
            <a:ext cx="944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102403"/>
          <p:cNvSpPr/>
          <p:nvPr/>
        </p:nvSpPr>
        <p:spPr>
          <a:xfrm>
            <a:off x="3348000" y="501336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6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867040" cy="69516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7" descr=""/>
          <p:cNvPicPr/>
          <p:nvPr/>
        </p:nvPicPr>
        <p:blipFill>
          <a:blip r:embed="rId2"/>
          <a:stretch/>
        </p:blipFill>
        <p:spPr>
          <a:xfrm>
            <a:off x="399960" y="1990800"/>
            <a:ext cx="8344080" cy="28764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9"/>
          <p:cNvSpPr/>
          <p:nvPr/>
        </p:nvSpPr>
        <p:spPr>
          <a:xfrm>
            <a:off x="3924360" y="258120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70"/>
          <p:cNvSpPr/>
          <p:nvPr/>
        </p:nvSpPr>
        <p:spPr>
          <a:xfrm>
            <a:off x="5241960" y="256536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71"/>
          <p:cNvSpPr/>
          <p:nvPr/>
        </p:nvSpPr>
        <p:spPr>
          <a:xfrm>
            <a:off x="5219640" y="299736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2"/>
          <p:cNvSpPr/>
          <p:nvPr/>
        </p:nvSpPr>
        <p:spPr>
          <a:xfrm>
            <a:off x="2627280" y="355140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3"/>
          <p:cNvSpPr/>
          <p:nvPr/>
        </p:nvSpPr>
        <p:spPr>
          <a:xfrm>
            <a:off x="6948360" y="408780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4"/>
          <p:cNvSpPr/>
          <p:nvPr/>
        </p:nvSpPr>
        <p:spPr>
          <a:xfrm>
            <a:off x="1116000" y="450864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5"/>
          <p:cNvSpPr/>
          <p:nvPr/>
        </p:nvSpPr>
        <p:spPr>
          <a:xfrm>
            <a:off x="4788000" y="4497480"/>
            <a:ext cx="29527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8704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009960" cy="666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87044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257280" cy="3902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87045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6067440" cy="203832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87046" descr=""/>
          <p:cNvPicPr/>
          <p:nvPr/>
        </p:nvPicPr>
        <p:blipFill>
          <a:blip r:embed="rId4"/>
          <a:stretch/>
        </p:blipFill>
        <p:spPr>
          <a:xfrm>
            <a:off x="536400" y="3933720"/>
            <a:ext cx="8029800" cy="21718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87047" descr=""/>
          <p:cNvPicPr/>
          <p:nvPr/>
        </p:nvPicPr>
        <p:blipFill>
          <a:blip r:embed="rId5"/>
          <a:stretch/>
        </p:blipFill>
        <p:spPr>
          <a:xfrm>
            <a:off x="865080" y="6276960"/>
            <a:ext cx="5772240" cy="266760"/>
          </a:xfrm>
          <a:prstGeom prst="rect">
            <a:avLst/>
          </a:prstGeom>
          <a:ln w="0">
            <a:noFill/>
          </a:ln>
        </p:spPr>
      </p:pic>
      <p:sp>
        <p:nvSpPr>
          <p:cNvPr id="1037" name="矩形 87048"/>
          <p:cNvSpPr/>
          <p:nvPr/>
        </p:nvSpPr>
        <p:spPr>
          <a:xfrm>
            <a:off x="3132000" y="3933720"/>
            <a:ext cx="7192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7049"/>
          <p:cNvSpPr/>
          <p:nvPr/>
        </p:nvSpPr>
        <p:spPr>
          <a:xfrm>
            <a:off x="1104840" y="4869000"/>
            <a:ext cx="3841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7050"/>
          <p:cNvSpPr/>
          <p:nvPr/>
        </p:nvSpPr>
        <p:spPr>
          <a:xfrm>
            <a:off x="4716360" y="4879800"/>
            <a:ext cx="325764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7051"/>
          <p:cNvSpPr/>
          <p:nvPr/>
        </p:nvSpPr>
        <p:spPr>
          <a:xfrm>
            <a:off x="1093680" y="5722920"/>
            <a:ext cx="669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7052"/>
          <p:cNvSpPr/>
          <p:nvPr/>
        </p:nvSpPr>
        <p:spPr>
          <a:xfrm>
            <a:off x="7081920" y="5722920"/>
            <a:ext cx="669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860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515360" cy="20289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86018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8372520" cy="35337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86019" descr=""/>
          <p:cNvPicPr/>
          <p:nvPr/>
        </p:nvPicPr>
        <p:blipFill>
          <a:blip r:embed="rId3"/>
          <a:stretch/>
        </p:blipFill>
        <p:spPr>
          <a:xfrm>
            <a:off x="8028000" y="703440"/>
            <a:ext cx="695160" cy="23414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86020"/>
          <p:cNvSpPr/>
          <p:nvPr/>
        </p:nvSpPr>
        <p:spPr>
          <a:xfrm>
            <a:off x="6588000" y="1197000"/>
            <a:ext cx="6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6021"/>
          <p:cNvSpPr/>
          <p:nvPr/>
        </p:nvSpPr>
        <p:spPr>
          <a:xfrm>
            <a:off x="4859280" y="1628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6022"/>
          <p:cNvSpPr/>
          <p:nvPr/>
        </p:nvSpPr>
        <p:spPr>
          <a:xfrm>
            <a:off x="1187280" y="2027160"/>
            <a:ext cx="108432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6023"/>
          <p:cNvSpPr/>
          <p:nvPr/>
        </p:nvSpPr>
        <p:spPr>
          <a:xfrm>
            <a:off x="8244000" y="3500280"/>
            <a:ext cx="3286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6024"/>
          <p:cNvSpPr/>
          <p:nvPr/>
        </p:nvSpPr>
        <p:spPr>
          <a:xfrm>
            <a:off x="8244000" y="6021360"/>
            <a:ext cx="3286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4993" descr=""/>
          <p:cNvPicPr/>
          <p:nvPr/>
        </p:nvPicPr>
        <p:blipFill>
          <a:blip r:embed="rId1"/>
          <a:stretch/>
        </p:blipFill>
        <p:spPr>
          <a:xfrm>
            <a:off x="542880" y="1357200"/>
            <a:ext cx="8058240" cy="41436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4994"/>
          <p:cNvSpPr/>
          <p:nvPr/>
        </p:nvSpPr>
        <p:spPr>
          <a:xfrm>
            <a:off x="7812000" y="4065480"/>
            <a:ext cx="4939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3969" descr=""/>
          <p:cNvPicPr/>
          <p:nvPr/>
        </p:nvPicPr>
        <p:blipFill>
          <a:blip r:embed="rId1"/>
          <a:stretch/>
        </p:blipFill>
        <p:spPr>
          <a:xfrm>
            <a:off x="561960" y="1176480"/>
            <a:ext cx="8020080" cy="45050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3970"/>
          <p:cNvSpPr/>
          <p:nvPr/>
        </p:nvSpPr>
        <p:spPr>
          <a:xfrm>
            <a:off x="7740720" y="270828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2945" descr=""/>
          <p:cNvPicPr/>
          <p:nvPr/>
        </p:nvPicPr>
        <p:blipFill>
          <a:blip r:embed="rId1"/>
          <a:stretch/>
        </p:blipFill>
        <p:spPr>
          <a:xfrm>
            <a:off x="552600" y="1252440"/>
            <a:ext cx="8038800" cy="435312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2946"/>
          <p:cNvSpPr/>
          <p:nvPr/>
        </p:nvSpPr>
        <p:spPr>
          <a:xfrm>
            <a:off x="7740720" y="3860640"/>
            <a:ext cx="493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89089" descr=""/>
          <p:cNvPicPr/>
          <p:nvPr/>
        </p:nvPicPr>
        <p:blipFill>
          <a:blip r:embed="rId1"/>
          <a:stretch/>
        </p:blipFill>
        <p:spPr>
          <a:xfrm>
            <a:off x="781200" y="1933560"/>
            <a:ext cx="7581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9011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48880" cy="5286600"/>
          </a:xfrm>
          <a:prstGeom prst="rect">
            <a:avLst/>
          </a:prstGeom>
          <a:ln w="0">
            <a:noFill/>
          </a:ln>
        </p:spPr>
      </p:pic>
      <p:sp>
        <p:nvSpPr>
          <p:cNvPr id="1058" name="矩形 90114"/>
          <p:cNvSpPr/>
          <p:nvPr/>
        </p:nvSpPr>
        <p:spPr>
          <a:xfrm>
            <a:off x="4356000" y="1773360"/>
            <a:ext cx="11001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90115"/>
          <p:cNvSpPr/>
          <p:nvPr/>
        </p:nvSpPr>
        <p:spPr>
          <a:xfrm>
            <a:off x="4344840" y="2287440"/>
            <a:ext cx="11001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6:40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